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10488" cy="10569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716-BFEB-4FC4-8541-9F45EC36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694044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560" y="6110640"/>
            <a:ext cx="694044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38B-4696-4CAD-939E-52701C6D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2000" y="246708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5560" y="611064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2000" y="611064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09F-B711-48FF-8A25-21BF34F6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22345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2040" y="2467080"/>
            <a:ext cx="22345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8880" y="2467080"/>
            <a:ext cx="22345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5560" y="6110640"/>
            <a:ext cx="22345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2040" y="6110640"/>
            <a:ext cx="22345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8880" y="6110640"/>
            <a:ext cx="22345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C9A-3C0C-472E-BA82-6FB27275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5560" y="2467080"/>
            <a:ext cx="6940440" cy="69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ED9-4B2A-478E-81F8-0071AFCC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6940440" cy="69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B89-EC86-4BF4-B830-0B05EC7E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3386880" cy="69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2000" y="2467080"/>
            <a:ext cx="3386880" cy="69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31D-1645-4FC2-A636-CDA3FFCE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D74-1FF7-4991-A828-813E44D0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5560" y="423360"/>
            <a:ext cx="6940440" cy="81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38C-6E49-43E8-99E1-0691D189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2000" y="2467080"/>
            <a:ext cx="3386880" cy="69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5560" y="611064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431-4502-4970-9F1D-FA9A4D25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3386880" cy="69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2000" y="246708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2000" y="611064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F55-E94C-4ED3-AD2C-67F7F987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5560" y="246708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2000" y="2467080"/>
            <a:ext cx="33868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5560" y="6110640"/>
            <a:ext cx="694044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1E8-A4DF-4BCA-A77C-8802ED5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560" y="423360"/>
            <a:ext cx="694044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560" y="2467080"/>
            <a:ext cx="6940440" cy="69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5920" y="9626400"/>
            <a:ext cx="17985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35200" y="9626400"/>
            <a:ext cx="24415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27800" y="9626400"/>
            <a:ext cx="17985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B437-2A38-409E-B0ED-4EDFD07BD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396720" y="2097000"/>
            <a:ext cx="6858000" cy="6370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4:57:43Z</dcterms:created>
  <dc:creator>Customer</dc:creator>
  <dc:description/>
  <dc:language>en-US</dc:language>
  <cp:lastModifiedBy>Лаврова</cp:lastModifiedBy>
  <dcterms:modified xsi:type="dcterms:W3CDTF">2016-01-29T09:48:42Z</dcterms:modified>
  <cp:revision>1</cp:revision>
  <dc:subject/>
  <dc:title>Слайд 1</dc:title>
</cp:coreProperties>
</file>